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7678080" y="623412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4B7FB627-287B-41B7-B024-811336DE84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: Farmer’s Mark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ing Ridd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t = “there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c = 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+= 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 c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utpu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+=t is just shorthand for s=s+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s ends up pointing at a new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still points at the old St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: String references act like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pecial Literal Valu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abc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c”.equals(“abc”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[] iarray = new int[] {1,2,3,4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nymous classes are sort-of literal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ass Objec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class of all Java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class has no explicit superclass, it extends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teresting Object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String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hCod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Clas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one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new object with the same state as the orig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.clone() doe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ow cop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only if the object implements the Cloneable dummy interface, provides a public clone(), and calls super.clone(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one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 = a.clon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: All read operations on a and b should return the same resul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 clone() in subclasses if you need to be able to produce cop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super.clone() to get the Object.clone()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one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.clone() is protected, so you cannot clone() an Object refer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lasses cannot safely be cloned, even if you extend them and implement a public clone(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one interface is something of a m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quals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define an equivalence relation among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ise meaning depends on exact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ault Object.equals() is to use identity (==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armer’s Market Domai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3962520"/>
            <a:ext cx="20574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2438280"/>
            <a:ext cx="20574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9782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3560" y="295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3560" y="3560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quals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 = a.clon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 eq = b.equals(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: eq should always be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 equals() in subclasses to provide for value-based equivalence 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oString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 string representation of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.toString() produces a string like “MyClass@0x563343” as an object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 toString() to produce better human-readable string representations for your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ashCode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n integer that is a “fingerprint” for the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fault, Object.hashCode() probably uses an object’s address (identity) for h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 if you have value-based objects (like Strings) that are stored in hash t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ashCode() and equals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.equals(b), then a.hashCode() == b.hashCod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must maintain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value-based objects, use the state of the object as the basis for the hash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etClass(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n object of ty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reflection (the system can examine its own logical struc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on this late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ther methods of Objec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has several other methods which deal with synchro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for multithreaded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’ll look at those later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ctual vs. Apparent Typ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nforces type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morphism relaxes type rules in a controlled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pparent Typ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arent type: The type a variable is declar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bj; // It’s “at least”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ctual Typ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type: The type of the object a variable currently refers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bj = new String; // Actual type is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 = someFunction(); // Actual type is 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s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ast from the apparent to actual typ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(String)obj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throw an exception of obj is not “at least” a St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ts are like fire: Useful and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arket Simulation, Version 0.1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952880"/>
            <a:ext cx="20574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429000"/>
            <a:ext cx="20574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9686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8480" y="3941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8480" y="4551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905120"/>
            <a:ext cx="20574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244476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8480" y="2494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38480" y="3027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3760" y="2444760"/>
            <a:ext cx="67320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274968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1160" y="4730760"/>
            <a:ext cx="69840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5160" y="2036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1480" y="5237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sts are Usefu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ting is necessary in any nontrivial Java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Vector stores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sts are Dangerou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types change at runt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ode may compile and work fine in unit test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throw an exception when it starts seeing real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ynamic Polymorphis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tunately, casts can be avoid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bj = someMethod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h = obj.hashCode();  // Uses actual type’s hashCod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verri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imes you want to replace a superclass method, sometimes you want to enhanc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uper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) to invoke the overridden method (or any other) inside the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ide a constructor, u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per(...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invoke a particular superclass constr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verri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B extends A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draw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.draw(); // Draw bas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BDecorations(); // add B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eneral, “final” means something cannot be further modifi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d to a variable, it means the value can not be further chan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int i = 42; // 42, now and for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int j; // Can only be assigned to _once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d to a method, it means the method cannot be overrid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d to a class, it means all methods are f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o prevent extension where it’s not appropr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“public final class Str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commend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OT if you haven’t al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SDUJ, ch. 1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 by Contrac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thod specification represents a con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er promises to provide certain parameters and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in turn guarantees certain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 by Contrac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 on the inputs, and effects of the method, should be specifi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de is writt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recondi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s specify what the methods requ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stcond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ments specify what the method’s final effec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arket Simulation Cod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 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Arrays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sort(int[] 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Effects: Rearranges the element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a[] into ascending o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 B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searchSorted(int[] a, int 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Requires: a is sorted in ascending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Effects: If x in a[], returns index of x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 else returns -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enefit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cedural abs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decoupling of interface and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various implementations that satisfy the given con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ntract Viol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f the caller fails to obey the contr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xample: searchSorted() with unsorted array 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he contract is void and method is allowed to do anything (loop forever, return garbage, throw an excep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bu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the cal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ntract Viol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f the method fails to obey the contr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is, the caller satisfies the precondition, but the effects are not as advert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bu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the metho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Have Precondition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thod without preconditions/requires clauses is more robust and easier to use than one with pre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method with preconditions has more implementation freed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onditions can let methods be more effici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fficienc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ould be much less efficient for searchSorted() to check a[] to see if it was really so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ing so would turn searchSorted() from a logarithmic-time method into a linear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ome methods, the running time might be part of the spec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fensive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searchSorted() specified a return of -1 if the element was not fou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thod must specify what happens for all legal inputs (everything that satisfies the precondition/requires clau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asonable return value for some state, throwing an exception is appropri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en to use Pre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ow-level methods that can rely on callers to operate cor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Utility methods, private methods of a class or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in methods that need the precondition to run effici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earchSorted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en to use Robust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need to provide a high-level interface usable by a variety of cal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these two recommendations can confli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ackage java.uti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classes and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Doc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FarmersMarket: Enumeration, Ve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tecting Contract Viol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 tests check post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can check for precondition violations (but they’re not required t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nable checks only if a robustMode flag is turned on (be carefu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could also check their own postconditions as a safety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tecting Contract Viol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hould a method do if it detects a pre/post condition viol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best answer: Throw a subclass of RuntimeExce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But don’t promise to throw it in the documentati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or separation of error handling logic and normal-case log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use: To provide a simple interface for the usual case but still allow for passing error information back in the unusual 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factorial(int n) throws NonPositive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Effects: If n&gt;0 returns n! else throws NonPositive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f = Num.factorial(n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Can rely on f being a valid answer in this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age (local error handling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{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f = Num.factorial(n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 (NonPositiveException e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Error: Number must be positive: “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age (remote error handling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it as in the first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atch error at a higher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Number(myNumber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catch (NonPositiveException e) 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fining Excep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s are subclasses of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timeException is a subclass of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RuntimeException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che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eck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hecked Excep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fining a method, you must specify what (checked) exceptions it might possibly throw or propa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r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word specifies the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factorial(int n) throws NonPositive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heck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iler checks to make sure that no undeclared (checked) exceptions can be thrown out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hecked exceptions, however, are not che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 Language and Idiom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uggest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SDUJ, ch.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 by  Contract and Class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group multiple procedures together with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preconditions and postconditions can involve the state of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vari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lass usually has one or mo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varia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ariant: A rule that the class enforces at all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tied to internal state, not visible to client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vari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ByteBuf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int bytesUse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 buf[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ariant: bytesUsed &lt;= buf.length at all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variant Strateg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or sets up the invariant to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ethod ensures the invariant holds at retur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priv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invariant can be assumed by every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an Invariant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“safe preconditions” on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ethod can assume the invariant holds when it’s ca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don’t worry about pre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interface more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roken Invarian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can check invariants the same way it checks post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ken invariant indicates a bug in the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reat this like a postcondition vio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reaking/Restoring Invari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are allowed to break the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ust restore it before client code could see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sUsed = bytesUsed * 2; // 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 = new byte[bytesUsed]; // Rest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ocumenting and Checking Invari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document as part of class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can do internal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xpose a repOK() method for unit testing and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K() throws a RuntimeException if the invariant is bro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re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class is allowed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ak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preconditions on an overridden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eans that the subclass can handle everything the superclass does, plus mo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Variables, References, and Valu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type variables hol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types variables and arrays hol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=b; // To copy or not to co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imitives Copy, Classes Sh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re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CarEngine {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setRpm(int rpm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Requires: rpm&lt;6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re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JetCarEngine extends CarEngine {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setRpm(int rpm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Requires: rpm&lt;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w precondition is weaker because it accepts everything CarEngine.setRpm does plus mo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Weaken Precondition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not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n the super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violate the Substitution Principle and make code less rob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ing precondtions only adds functiona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ost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class is allowed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rengthe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conditions on an overridden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eans the subclass promises everything its superclass does, plus mo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ost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AbstractStack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ush(Object obj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Ensures: obj is on the stack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or throws OutOfStackSpace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Post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BoundedStack extends AbstractStack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final STACK_SIZE=10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ush(Object obj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Ensures: obj is on the stack if it h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fewer than STACK_SIZE objects, 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throws OutOfStackSpace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Strengthen Postcondition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subclass to extend superclass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not promi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n the super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ain, would violate Substitution Princi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 and Invari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can strengthen invariants (add more rul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ly, a subclass should not even be able to break a superclass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even if it’s possible, it’s a bad idea (why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clas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tain or strengthen invari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weaken or eliminate pre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tain or strengthen post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ass Typ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ty (==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nce (equ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mmut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type with value 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tabl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6:32:43Z</dcterms:created>
  <dc:creator>John Panzer</dc:creator>
  <dc:description/>
  <dc:language>en-US</dc:language>
  <cp:lastModifiedBy>John Panzer</cp:lastModifiedBy>
  <cp:lastPrinted>2000-10-20T23:56:13Z</cp:lastPrinted>
  <dcterms:modified xsi:type="dcterms:W3CDTF">2001-02-05T23:51:52Z</dcterms:modified>
  <cp:revision>10</cp:revision>
  <dc:subject/>
  <dc:title>Object Oriented Programming Using Java</dc:title>
</cp:coreProperties>
</file>