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cf4ea"/>
              </a:buClr>
              <a:buSzPct val="62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5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" name=""/>
          <p:cNvSpPr/>
          <p:nvPr/>
        </p:nvSpPr>
        <p:spPr>
          <a:xfrm>
            <a:off x="7646040" y="6221520"/>
            <a:ext cx="1713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-</a:t>
            </a:r>
            <a:fld id="{7D98D5EE-A85D-45A1-896D-05068D0148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Frameworks and AW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Getting Started with Swing: GUI Object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phical objects map well onto internal Java obje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GuiAlpha.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The Listener Architectur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steners let objects know about UI ev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: GuiBeta.java, GuiGamma.java, GuiDelta.java, GuiEpsilon.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steners are a variant on the Observer patter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stenerAdaptors are a variant of the Adaptor patter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Using UI Object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ButtonDemo.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TextDemo.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Layout Object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youts control how controls are placed in a container o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youts are an example of the Policy patter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LayoutDemo.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Graphical Programming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WT framework lets you take over control of low-level features to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xample, you can paint a component manually using low-level graphics metho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GraphicsDemo.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A Sample Applicatio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VotingMachine.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A Quick Introduction to Thread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 is fundamentally multithrea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’s easy to create thre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ThreadDemo.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Why Create Threads?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more responsive UI (AWT uses a separate thread for events and paint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do work in the back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take advantage of multiple process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Using Threads with AW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ads should do work in the background and request repaints as need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need to declare methods synchronized in order to avoid race conditions and breaking of class invaria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GraphicsDemo2.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Pattern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ach pattern describes a problem which occurs over and over again in our environment, and then describes the core of the solution to that problem, in such a way that you can use this solution a million times over, without ever doing it the same way twi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Christopher Alexan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What is a Framework?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ibrary of classes and interfaces that are designed to work toge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framework provides default behavi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ents can override or extend to create an applic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Pattern Essential Element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reational Pattern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 how to create o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ents don’t know concrete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ingleton, Prototype, AbstractFac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ingleto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nt: Ensure a class has only one instance, and provide a global point of ac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ld use a public static variable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this doesn’t ensure only one inst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 examples: SecurityManager, Proper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ingleton Applicability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Singleton wh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uld be one in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uld be global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uld be open to subcla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ingleton Structur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16040" y="2363760"/>
            <a:ext cx="2283120" cy="4546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16040" y="2820960"/>
            <a:ext cx="2283120" cy="7027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 static instance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6040" y="3506760"/>
            <a:ext cx="2283120" cy="7027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tatic _inst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08760" y="2808360"/>
            <a:ext cx="2460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urns _inst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80000" y="3048120"/>
            <a:ext cx="13143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ingleton: Java Example 1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Config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ring getParam(String name) {…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ring readParams(String file) {…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atic Config instance(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_instance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ingleton: Java Example 1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ected Config() {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vate static Config _instance =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Config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Lazy Singleton: Java Example 2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Config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ring getParam(String name) {…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ring readParams(String file) {…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atic Config instance(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f (_instance == null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_instance = new Config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eturn _instance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Lazy Singleton: Java Example 2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vate Config() {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rivate static Config _instance = null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ingleton Example Usag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ig cfg = Config.instance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 nt = cfg.getParam(“NumThreads”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Why Frameworks?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agine building a c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start out with hundreds of par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assemble them any way you wa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much works until everything is put toge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ingleton Consequenc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ess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s global 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substitute a subclass of the Single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extend to a variable # of in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ingleton Implementation Issu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o create (class load time vs. on-deman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subclass (see Factor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clients change the singleton insta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ingleton Registratio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want to allow several singleton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ents must have a string name for the singleton they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ase Singleton class is useful 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ingleton Registration Exampl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java.util.Hashtable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/ Use Singleton.instance(String) to acces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/ a given instance by na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abstract class Singleton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protected Hashtable _registry =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Hashtable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ingleton Registration Exampl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/ Subclasses should provide th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/    static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/        SubSingleton s = new SubSingleton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/        _registry.put(s.getClass().getName(),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/    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ingleton Registration Exampl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ected Singleton() {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public Singleton instance(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 name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(Singleton)(_registry.get(name)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ingleton Us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.getProperties(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.getSecurityManager(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ad.currentThread(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.getClass(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Prototyp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nt: Specify the kinds of objects to create by providing an example object, and create new instances by cloning that o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Prototype Applicability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Prototype wh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ent code can’t know about concrete sub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subtypes are specified at run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Prototype Structur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9360" y="1906560"/>
            <a:ext cx="2282760" cy="4546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rot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49360" y="2363760"/>
            <a:ext cx="2282760" cy="3322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one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83480" y="1982880"/>
            <a:ext cx="1368360" cy="4546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14840" y="2209680"/>
            <a:ext cx="30924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70320" y="2895480"/>
            <a:ext cx="95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514600" y="2720880"/>
            <a:ext cx="0" cy="8064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49360" y="3583080"/>
            <a:ext cx="2282760" cy="4546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reteObjec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49360" y="4040280"/>
            <a:ext cx="2282760" cy="3322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one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838680" y="2720520"/>
            <a:ext cx="19080" cy="196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711600" y="2720880"/>
            <a:ext cx="1263600" cy="8064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87640" y="3583080"/>
            <a:ext cx="2283120" cy="4546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reteObjec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7640" y="4040280"/>
            <a:ext cx="2283120" cy="3322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one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Why Frameworks?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imagine buying a c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fault, you get the basic mod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order special options like cruise control and air condition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do minor customization after purchase (adding a seat cove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Prototype Consequenc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ouples client from concrete in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change prototypes on the f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chang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a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prototype to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Prototype Implementatio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 already provides Object.clone()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 _prototype = … 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 obj = _prototype.clone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Prototype Implementation, cont’d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provide a registry of proto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s a string name to a prototype in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update at run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stry should be a Single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Prototype Exampl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Monster implements Cloneable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abstract Object clone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vate String _name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vate int _health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Prototype Exampl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 Giant extends Monster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Object clone() {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try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ant ng = (Giant)super.clone(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g._weapon = (Weapon)_weapon.clone(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Prototype Exampl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 catch (CloneNotSupportedException e)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w RuntimeError(e.toString()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vate Weapon _weap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Prototype Exampl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Game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etDefaultMonster(Monster m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prototypeMonster = m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Monster newMonster(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_prototypeMonster.clone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AbstractFactory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nt: Provide an interface for creating families of objects without explicitly specifying the concrete clas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 examples: BorderFactory, java.net.URLStreamHandlerFac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AbstractFactory Applicability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Factory wh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ent code should be independent of how the objects it uses are crea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ent code can be configured with a specific family of objects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want to expose only interfaces, not concrete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AbstractFactory Structur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9360" y="1906560"/>
            <a:ext cx="2282760" cy="4546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stractFac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49360" y="2363760"/>
            <a:ext cx="2282760" cy="107316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reateProdX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reateProdY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3480" y="1982880"/>
            <a:ext cx="1368360" cy="4546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714840" y="2209680"/>
            <a:ext cx="30924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9360" y="4421160"/>
            <a:ext cx="2282760" cy="4240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ncreteFactor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49360" y="4878360"/>
            <a:ext cx="2282760" cy="107316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reateProdX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reateProdY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514600" y="3406680"/>
            <a:ext cx="0" cy="959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70320" y="3581280"/>
            <a:ext cx="95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3440" y="2973240"/>
            <a:ext cx="2283120" cy="4546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stractProd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762360" y="4016520"/>
            <a:ext cx="781200" cy="6537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3440" y="3811680"/>
            <a:ext cx="2283120" cy="4546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reteProd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715000" y="340668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70720" y="3581280"/>
            <a:ext cx="95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3440" y="4726080"/>
            <a:ext cx="2283120" cy="4546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stractPr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3440" y="5564160"/>
            <a:ext cx="2283120" cy="4546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retePr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715000" y="5159160"/>
            <a:ext cx="0" cy="4251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70720" y="5334120"/>
            <a:ext cx="95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65600" y="5594400"/>
            <a:ext cx="780840" cy="1713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6686640" y="2470320"/>
            <a:ext cx="272880" cy="4759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6838560" y="2470320"/>
            <a:ext cx="1111320" cy="24573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Why Frameworks?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a framework is like buying a car instead of building one yoursel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important differen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have to modify a car to customize 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framework stays the same no matter how many times you use 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AbstractFactory Participant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Factory defines an interface for creating related product o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reteFactory knows how to create concrete pro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Product is pure interf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reteProduct implements the AbstractProdu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AbstractFactory Consequenc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ouples client from concrete pro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wapping product families is eas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ent can’t accidentally mix famil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New kinds of product objects require big ch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AbstractFactory Implementatio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ctories are often Singlet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use Java Class objects to implement ConcreteFac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use the Prototype pattern to implement the ConcreteFac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AbstractFactory Implementation, cont’d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ead of multiple createX() methods, can have a single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(parameters…) decides what kind of object to create based on input parame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: create() must return a very general kind of objec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AbstractFactory Exampl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CandyFactory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vate String _kind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andyFactory( String kind 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kind = kind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AbstractFactory Exampl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andy make( 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candyClass =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.forName( _kind 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(Candy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dyClass.newInstance();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tructural Pattern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rned with how objects work together to solve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use either subtyping or com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mpo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omposit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nt: Compose objects into tree structures to represent container/part relationships.  Let code treat composite objects and individual objects uniform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 Example: java.awt.Contain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omposite Applicability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Composite w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to represent part/whole hierarchies of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ents need to treat both compositions and individual objects uniform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omposite Structur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49360" y="1906560"/>
            <a:ext cx="2282760" cy="4546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on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49360" y="2363760"/>
            <a:ext cx="2282760" cy="106236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Operation(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dd(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move(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umChildren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83480" y="1982880"/>
            <a:ext cx="1368360" cy="4546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714840" y="2209680"/>
            <a:ext cx="30924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9360" y="4421160"/>
            <a:ext cx="2282760" cy="4240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ndividu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49360" y="4878360"/>
            <a:ext cx="2282760" cy="3322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Operation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514600" y="3406320"/>
            <a:ext cx="0" cy="1035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70320" y="3581280"/>
            <a:ext cx="95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3960" y="4421160"/>
            <a:ext cx="2282760" cy="4546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o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63960" y="4878360"/>
            <a:ext cx="2282760" cy="106236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Operation()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dd(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move(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umChildren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3711600" y="3406320"/>
            <a:ext cx="1263600" cy="1035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89640" y="4713120"/>
            <a:ext cx="2689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all c in enumChildren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.doOperation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591160" y="4930560"/>
            <a:ext cx="781200" cy="120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hoosing a Framework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meworks are targeted at specific domai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lets them provide a lot of behavior that you don’t have to ch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ose a framework that matches your problem doma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omposite Participant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onent declares very general interface, implements do-nothing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vidual has no children and represents an atomic o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osite implements add/remove/enume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ent deals only with Component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omposite Consequenc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x objects can be built up out of primitive objects without affecting cli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ents treat all objects uniformly, simplifies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sy to add new kinds of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Can make design too generic; hard to restrict possible structu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omposite Implementatio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ren can also have a reference to their pa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ten want to put all operations into Component interface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but this can lead to bending substitution and replacing compile-time checks with runtime chec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omposite Implementatio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move add/remove/enumerate to Composite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icates clients; they need to downcas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y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osite c = (Composite)myComponen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add(...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 catch {ClassCastException cce) {...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omposite Implementatio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rator pattern is useful for enumerating children generical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kinds of Composites can implement list of children different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omposite Java Exampl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49360" y="1906560"/>
            <a:ext cx="3122640" cy="4546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.awt.Compon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49360" y="2363760"/>
            <a:ext cx="3122640" cy="106236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validate(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int(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sEvent(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76520" y="3962520"/>
            <a:ext cx="2666880" cy="4546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.awt.Contai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6520" y="4419720"/>
            <a:ext cx="2666880" cy="106236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dd(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move(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etComponent(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etComponentCount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2960280" y="3417840"/>
            <a:ext cx="33480" cy="555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72200" y="3200400"/>
            <a:ext cx="2286000" cy="4546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Fr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72200" y="3733920"/>
            <a:ext cx="2286000" cy="4546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Pa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72200" y="4267080"/>
            <a:ext cx="2286000" cy="4546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But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5552640" y="3444840"/>
            <a:ext cx="631800" cy="581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552640" y="3978360"/>
            <a:ext cx="631800" cy="123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5551200" y="4179960"/>
            <a:ext cx="631800" cy="32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2880" y="3733920"/>
            <a:ext cx="609840" cy="83808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333680" y="4206960"/>
            <a:ext cx="631800" cy="123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19320" y="1752480"/>
            <a:ext cx="3581280" cy="3962520"/>
          </a:xfrm>
          <a:prstGeom prst="rect">
            <a:avLst/>
          </a:prstGeom>
          <a:noFill/>
          <a:ln w="1260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43600" y="2819520"/>
            <a:ext cx="2895480" cy="2209680"/>
          </a:xfrm>
          <a:prstGeom prst="rect">
            <a:avLst/>
          </a:prstGeom>
          <a:noFill/>
          <a:ln w="1260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28680" y="5862600"/>
            <a:ext cx="168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mpo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48400" y="5176800"/>
            <a:ext cx="1609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ndivid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omposite Object Diagram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9880" y="1981080"/>
            <a:ext cx="1598760" cy="4546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JFr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3276720"/>
            <a:ext cx="1676520" cy="4546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JPa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52480" y="4343400"/>
            <a:ext cx="1676520" cy="4546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JLab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4343400"/>
            <a:ext cx="1676520" cy="4546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J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562720" y="3276720"/>
            <a:ext cx="1676160" cy="4546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JBut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3647880" y="2454120"/>
            <a:ext cx="936360" cy="809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40120" y="2454120"/>
            <a:ext cx="1343160" cy="809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733480" y="3749760"/>
            <a:ext cx="631800" cy="581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368520" y="3749760"/>
            <a:ext cx="885960" cy="581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Behavioral Pattern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rned with how to distribute responsibility between o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unctor, (Observer), Strate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Functor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nt: Represent functions as obje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 examples: Comparator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Functor Applicability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Functor w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need to manipulate a procedure as an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nt to pass a procedure to some other object as a callb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hoosing a Framework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choose a framework that doesn’t match your doma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Nobody buys a car expecting to turn it into a boat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Functor Consequenc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s dynamic configuration of what procedures get cal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Can lead to poor abstr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May be hard to see flow of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Functor Implementatio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PrefixComparat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s Comparator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compare(Object a, Object b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((String)a).substr(0,3).compareTo(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tring)b).substr(0,3)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Functor Implementatio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 names[] = new String[100]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rays.sort(names,new PrefixComparator()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Functors Can Have Stat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PrefixComparat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s Comparator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vate final int _pLen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fixComparator(int pLen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pLen = pLen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Functors Can Have Stat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compare(Object a, Object b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(String)a).substr(0,_pLen).compareTo(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tring)b).substr(0,_pLen)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Functors Can Have Stat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 names[] = new String[100]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rays.sort(names,new PrefixComparator(5)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trategy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nt: Define a family of algorithms, encapsulate each one, and make them interchangea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 examples: LayoutMana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trategy Applicability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Strategy w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objects differ only in their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different versions of a single proced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lass implements many behaviors with if-then-else logic; move related conditions into separate Strategy subcla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trategy Structur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49360" y="1906560"/>
            <a:ext cx="2208240" cy="4546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49360" y="2363760"/>
            <a:ext cx="2208240" cy="3322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ntextInterface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4510080" y="2732040"/>
            <a:ext cx="733320" cy="860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52880" y="1905120"/>
            <a:ext cx="3122640" cy="4546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ate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52880" y="2362320"/>
            <a:ext cx="3122640" cy="3322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lgorithmInterface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62320" y="3581280"/>
            <a:ext cx="3122640" cy="4546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reteStrategy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362320" y="4038480"/>
            <a:ext cx="3122640" cy="3322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lgorithmInterface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67280" y="3581280"/>
            <a:ext cx="3122640" cy="4546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reteStrategy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67280" y="4038480"/>
            <a:ext cx="3122640" cy="3322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lgorithmInterface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7315200" y="2655720"/>
            <a:ext cx="0" cy="936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3723840" y="2133720"/>
            <a:ext cx="1241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trategy Participant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egy declares an interface common to all implement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reteStrategy implements a variant of the algorith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ext is configured with a Strategy subclass, maintains a reference to it, and may define an interface to let Strategy access its da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Frameworks and Pattern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framework captures design patterns in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ollowing examples will contain references to design patterns as they come u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trategy Collaboration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ext and Strategy cooperate to implement the algorithm.  Usually Context has the data, Strategy has the behavi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ents of Context configure it by passing it a ConcreteStrategy o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trategy Consequenc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factor out common parts of algorithms though inherita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s an alternative to subclassing the Cont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eliminate conditional code in Context (switch/if-el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trategy Consequenc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s (extensible) choice of implementation to cli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Clients must know about different ConcreteStrate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Communication overhead between Context and Strate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Increases number of objects u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trategy Implementatio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ext can provide a default Strategy if clients don’t provide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trategy Exampl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Panel jp = new JPanel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p.getContentPane().setLayout(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FlowLayout() 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uggested Reading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OSDUJ, 7, 9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Framework Example: AWT/JFC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phical User Interfaces are a very common domain and there are many frameworks to create t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Java, the official framework is AWT (with JFC and Swing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0T16:32:43Z</dcterms:created>
  <dc:creator>John Panzer</dc:creator>
  <dc:description/>
  <dc:language>en-US</dc:language>
  <cp:lastModifiedBy>John Panzer</cp:lastModifiedBy>
  <cp:lastPrinted>2000-12-01T23:49:47Z</cp:lastPrinted>
  <dcterms:modified xsi:type="dcterms:W3CDTF">2001-03-13T02:20:22Z</dcterms:modified>
  <cp:revision>8</cp:revision>
  <dc:subject/>
  <dc:title>Object Oriented Programming Using Java</dc:title>
</cp:coreProperties>
</file>