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2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7652520" y="6227640"/>
            <a:ext cx="171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889E9A88-06F3-41B1-AD8A-B6ED1804E5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bject-Oriented Programming Using Jav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436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Pan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oftware Engineer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pick any tw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129280" y="2631960"/>
          <a:ext cx="3870360" cy="28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9280" y="2631960"/>
                    <a:ext cx="387036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oftware Engineering is Differen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exact duplicates of previous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lement of research in every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is infinitely malle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oftware Engineering is Differen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hard physical lim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can construct anything we can specify precisely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so human mental capacity is the real lim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129280" y="2128680"/>
          <a:ext cx="3870360" cy="38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9280" y="2128680"/>
                    <a:ext cx="387036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98520" y="222120"/>
          <a:ext cx="63403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222120"/>
                    <a:ext cx="63403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952520" y="4419720"/>
            <a:ext cx="33102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Human mental capacity is probably a fixed quantity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ducing Complexit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129280" y="2509920"/>
          <a:ext cx="3870360" cy="31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9280" y="2509920"/>
                    <a:ext cx="387036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30360" y="844560"/>
            <a:ext cx="1130400" cy="749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0360" y="2825640"/>
            <a:ext cx="1282680" cy="11304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8840" y="1454040"/>
            <a:ext cx="2197080" cy="596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40040" y="2139840"/>
            <a:ext cx="673200" cy="143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83040" y="4197240"/>
            <a:ext cx="2730600" cy="978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05040" y="1257480"/>
            <a:ext cx="2825640" cy="463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1638360"/>
            <a:ext cx="0" cy="114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05040" y="1638360"/>
            <a:ext cx="1073160" cy="463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57880" y="3619440"/>
            <a:ext cx="1225440" cy="53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394160" y="2095560"/>
            <a:ext cx="1657440" cy="84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91240" y="2095560"/>
            <a:ext cx="82440" cy="213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57680" y="3276720"/>
            <a:ext cx="84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7680" y="3848040"/>
            <a:ext cx="1987200" cy="9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561760" y="961560"/>
            <a:ext cx="3791160" cy="318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54440" y="1952280"/>
            <a:ext cx="2673360" cy="971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82640" y="4578480"/>
            <a:ext cx="1206720" cy="901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86000" y="3939840"/>
            <a:ext cx="0" cy="655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806480" y="1653840"/>
            <a:ext cx="503280" cy="294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24280" y="3635280"/>
            <a:ext cx="782640" cy="1036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24280" y="2111400"/>
            <a:ext cx="3373200" cy="271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924280" y="4854240"/>
            <a:ext cx="1849320" cy="27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30360" y="844560"/>
            <a:ext cx="1130400" cy="749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30360" y="2825640"/>
            <a:ext cx="1282680" cy="11304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8840" y="1454040"/>
            <a:ext cx="2197080" cy="596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40040" y="2139840"/>
            <a:ext cx="673200" cy="143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83040" y="4197240"/>
            <a:ext cx="2730600" cy="978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701800" y="1266480"/>
            <a:ext cx="1149480" cy="36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394160" y="2095560"/>
            <a:ext cx="1657440" cy="84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91240" y="2095560"/>
            <a:ext cx="82440" cy="213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57680" y="3276720"/>
            <a:ext cx="84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57680" y="3848040"/>
            <a:ext cx="1987200" cy="9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16360" y="920880"/>
            <a:ext cx="901800" cy="749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62440" y="1333440"/>
            <a:ext cx="768240" cy="311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82640" y="4578480"/>
            <a:ext cx="1206720" cy="901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314440" y="3939840"/>
            <a:ext cx="20880" cy="655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upling and Cohes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upl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tween two modules is how strongly one depends on the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he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degree to which a module has a single, well-defined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coupling, high cohesion modules give us chunkable, reusabl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Hiding Design Decis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de design decisions that are likely to change in just one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requirements change, code can change with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359160"/>
            <a:ext cx="2349720" cy="1206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37960" y="3713040"/>
            <a:ext cx="140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ize = 4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6240" y="2063880"/>
            <a:ext cx="978120" cy="444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02360" y="1835280"/>
            <a:ext cx="596880" cy="977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7640" y="5187960"/>
            <a:ext cx="1130400" cy="749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urse Requiremen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es some procedural programm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not assume knowledge of 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access to a Java compiler and computer system for class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ping with Chang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 always 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systems evolve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must remain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mbracing Chang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 change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11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systems must be able to evol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should allow for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good understanding of problem do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omain Analysi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omain is the problem space, the target of a software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ains often correspond to business domains: Personal financial services, selling groceries, renting mov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ypes of domains: Matrix computation, graphical interfaces, inventory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bject Oriented Domain Analysi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domain entities/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s a basis for solution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 Customer, Invoice, Account,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bject Oriented Domain Analysi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O originated in simulation applica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O analysis creates objects which represent the real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ork well for interactive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create many systems for a single do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stem Analysi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system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ctors (users or external syste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stories (use cases, scenari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9160" y="4425840"/>
            <a:ext cx="265428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8960" y="4502160"/>
            <a:ext cx="291960" cy="2919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830840"/>
            <a:ext cx="0" cy="401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06400" y="4952880"/>
            <a:ext cx="401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731600" y="5288040"/>
            <a:ext cx="198360" cy="96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35000" y="5288040"/>
            <a:ext cx="96840" cy="96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11320" y="5105520"/>
            <a:ext cx="1316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oving from Analysis to Desig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ten there is a direct mapping from an OO analysis model to the OO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omain object can be represented by an internal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 is to model enough of the domain object to support the stories generated during system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ion and Encapsul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 Time Polymorphis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and Inheri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bstraction and Encapsul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 interface and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cedure encapsulates a sequence of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bject encapsulates state along with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cedural Programm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apsulates processes by giving them names and interfa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 suited for domains with simple data structures which don’t change mu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the end of this course, you will be able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O techniques to analyze a problem 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 robust, extensible systems using OO design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 OO designs using appropriate Java constru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bject Based Programm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OP without classes, polymorphism and inheri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priate for domains where data structures and procedures both 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es couplin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ith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 object for increased cohesion and less couplin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e the possible objects in a 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2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lass is a blueprint for creating an object, much as a procedure is a recipe for carrying out a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2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static type checking of parts of the 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heritanc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new classes by extending existing 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s re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s coupling between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un Time Polymorphis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ing a particular implementation of an abstraction at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ouples client code and increases flex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a stable interface between client and prov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nified Modeling Languag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ML: Standard OO graphical no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xes and arrow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ML Distill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2nd 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Martin Fow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83240" y="3664080"/>
            <a:ext cx="596880" cy="52056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ers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83240" y="2597040"/>
            <a:ext cx="596880" cy="52092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Employe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6240" y="3054240"/>
            <a:ext cx="596880" cy="52092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Manag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781680" y="3101760"/>
            <a:ext cx="0" cy="579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191360" y="3254040"/>
            <a:ext cx="401760" cy="579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sign Patter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log of designs that have worked in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specific (and more useful) than general software engineering princi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recorded as narrative text with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sign Pattern Resour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sign Patterns: Elements of Reusable Object-Oriented Softw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he “Gang of Four” 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ttern Hatching: Design Patterns Appli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Vlissides, 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commended Read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ch. 1-4 (p. 1-5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Jav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commended Tex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bject-Oriented Technology: A Manager’s Gui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David A. Taylor, 19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____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ML Disti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2nd 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Martin Fow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Jav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a platform and a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VM: An abstract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: An object oriented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Java libraries: Extensive collection of standard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Java Virtual Machin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ytecode interpreter/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uples programs from operating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for a variety of operating 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11640" y="4883040"/>
            <a:ext cx="2959200" cy="596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ng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11640" y="4197240"/>
            <a:ext cx="2959200" cy="596880"/>
          </a:xfrm>
          <a:prstGeom prst="rect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11640" y="3511440"/>
            <a:ext cx="2044800" cy="596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Libr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11640" y="2825640"/>
            <a:ext cx="2959200" cy="596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Java Librari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 libraries in the Java Development Kit -- always avail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extensions -- standard API, may or may not be in a particular JD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DK 2.0 is the latest (note: 2.0==1.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7960" y="4959360"/>
            <a:ext cx="2959200" cy="596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ng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7960" y="4273560"/>
            <a:ext cx="2959200" cy="596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7960" y="3587760"/>
            <a:ext cx="2044800" cy="596880"/>
          </a:xfrm>
          <a:prstGeom prst="rect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Libr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7960" y="2901960"/>
            <a:ext cx="2959200" cy="596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e Java Languag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, methods, and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p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rbage col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th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Hello World Applic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 Hi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“Hi!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Compile: javac Hi.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Run: java 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bject Oriented Hello Worl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 Greet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String _message = “Hi!”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setMessage(String m) {_message = m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speak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_messag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O Hello Worl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Test driv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eter g = new Greete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(args.length &gt; 0) g.setMessage(args[0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speak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Compile: javac Greeter.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/ Run: java Greeter WhatsUpDoc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asses in Jav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encapsulate data and method implem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user defined types are cla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objects are created usin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w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re garbage collected when no longer in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 = new String(“Hello World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= null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Java Procedural Programm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h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atic metho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ich are associated with a class, not an object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name = “John Panzer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encName = URLEncoder.encode(name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urse Mailing List &amp; Websi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ttp://www.egroups.com/subscribe/ucscx-oop-java-winter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ign up for the course announcement and discussion email list at the URL above (or send me email and I will add you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capsul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provide encapsulation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iva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and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ages group related classes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within a package can see each other’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and code by defaul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thods to specify the visible operations for a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bstraction with Interfa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like a class that declares no implement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erface Comparable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compareTo(Object o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n Interface I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abstractio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data typ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ntract between client and implemen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mplementing an Interfac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Perso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lements Compa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compareTo(Object o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sing Interfa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s decouple clients and implementors through dynamic polymorphis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 interfaces as contracts, with preconditions and postcondi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lass can implement any number of interfa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heritanc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classe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ther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represents an is-a-kind-of relationship between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class can add functi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reuse of superclass functionality (and keeps design decisions in the superclas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tens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DialogWindow ext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awt.Window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lass can only extend one superclass, but can implement any number of interfa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tension vs. Interfa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introduces fairly strong coupling between two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a superclass can break sub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interfaces can break implementors too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but interfaces typically change less often than implementation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coupling with Interfa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interfaces can help reduce undesirable coupl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s such as Comparable allow “plug and play”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sing Extens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extension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an existing class (Pers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add a class (Employee) that is a kind of Person with extra behavior or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instance of Employee is-a Per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structo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Pan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panzer@acm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650) 937 427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Liskov Substitution Principl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s-a B if any instance of A  can be substituted for any instance of 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Employee is-a Pers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Example: A (mutable) Square is-not-a Rectang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oles and Responsibiliti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lass should have a small number of well-defined responsibilities (which together hide a design decisio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s can play various roles in th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can be a Per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can be an Employ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can be 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ol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 roles via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s can extend oth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SP applies to interface implementations a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sponsibiliti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lass should have a single, well-defined 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a Socket class manages a TCP/IP socket conn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Law of Demete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ideline: Methods should directly us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objects that 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ed directly to the metho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, are created by the metho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, are part of the method’s objec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, are global or singleton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Law of Demete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right 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ostat t = house.room.northWall.getThermostat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.setTemp(78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is strongly coupled to structure of other cla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Law of Demete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nativ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use.adjustTempForOccupiedRooms(78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bute responsibilities among ob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factor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t slide was an example of refactoring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ntire book has been written on this 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http://www.refactoring.com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28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factoring: Improving the Design of Existing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factor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nal structure of a system gets worse (more coupled, less cohesive, less flexible)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actoring takes working code and improves its structure while keeping functi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actoring is part of the process of system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commended Read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homework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ate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re on 5th assignment will replace lowest score from earlier assignments if doing so improves the s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signing with the Unified Modeling Languag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ML Histor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cestors: Booch, OMT, Jacobson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5-1997: UML developed and submitted to OMG (Object Management Grou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8-1999: UML adopted as basis for standard; Versions 1.0 and 1.1 of UML rel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urrent Sta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ML 1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fied Process (optio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ass Diagra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1080" y="1905120"/>
            <a:ext cx="182880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3276720"/>
            <a:ext cx="205740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3809880"/>
            <a:ext cx="2057400" cy="106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 : St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x : Rect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876920"/>
            <a:ext cx="2057400" cy="761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z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28880" y="289080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ssocia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1905120"/>
            <a:ext cx="182880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1905120"/>
            <a:ext cx="182880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81360" y="2133720"/>
            <a:ext cx="201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3429000"/>
            <a:ext cx="18288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ppingC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3429000"/>
            <a:ext cx="18288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81360" y="3657600"/>
            <a:ext cx="201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28880" y="17478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05400" y="21286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28880" y="31957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48200" y="3728880"/>
            <a:ext cx="77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5181480"/>
            <a:ext cx="18288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5181480"/>
            <a:ext cx="18288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81360" y="5410080"/>
            <a:ext cx="201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28880" y="49482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29080" y="5481720"/>
            <a:ext cx="31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28880" y="5481720"/>
            <a:ext cx="115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76800" y="5024520"/>
            <a:ext cx="542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i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48000" y="2585880"/>
            <a:ext cx="290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Many Windows per Scree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09920" y="4186080"/>
            <a:ext cx="44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One or Two Shopping Carts Per Custom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2200" y="5938920"/>
            <a:ext cx="3743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One billed customer per Invoic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pendenc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91320" y="2438280"/>
            <a:ext cx="18288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ppingC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2438280"/>
            <a:ext cx="18288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57680" y="2666880"/>
            <a:ext cx="20145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62200" y="3957480"/>
            <a:ext cx="465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ustomer uses ShoppingCar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62320" y="2362320"/>
            <a:ext cx="182880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ppingC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267080"/>
            <a:ext cx="18288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tI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62320" y="4800600"/>
            <a:ext cx="1828800" cy="762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038480"/>
            <a:ext cx="213372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oryI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00400" y="3224160"/>
            <a:ext cx="0" cy="102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09920" y="38052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.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110040" y="2919240"/>
            <a:ext cx="147600" cy="298800"/>
            <a:chOff x="3110040" y="2919240"/>
            <a:chExt cx="147600" cy="298800"/>
          </a:xfrm>
        </p:grpSpPr>
        <p:sp>
          <p:nvSpPr>
            <p:cNvPr id="318" name=""/>
            <p:cNvSpPr/>
            <p:nvPr/>
          </p:nvSpPr>
          <p:spPr>
            <a:xfrm flipH="1">
              <a:off x="3110040" y="2919240"/>
              <a:ext cx="10944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24160" y="2919240"/>
              <a:ext cx="3348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47840" y="3071880"/>
              <a:ext cx="334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222720" y="3032280"/>
              <a:ext cx="3312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095880" y="4572000"/>
            <a:ext cx="213372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ntityInSt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14880" y="4952880"/>
            <a:ext cx="1861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2400" y="5024520"/>
            <a:ext cx="2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86280" y="5024520"/>
            <a:ext cx="2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52920" y="3271680"/>
            <a:ext cx="206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hoppingCart owns CartItem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mposite Aggreg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1828800"/>
            <a:ext cx="20574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2362320"/>
            <a:ext cx="2057400" cy="1066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 : St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x : Rect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3352680"/>
            <a:ext cx="20574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0400" y="5334120"/>
            <a:ext cx="205740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334120"/>
            <a:ext cx="205740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75040" y="3417840"/>
            <a:ext cx="70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105520" y="3873240"/>
            <a:ext cx="0" cy="147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705720" y="3873240"/>
            <a:ext cx="0" cy="147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08560" y="4865760"/>
            <a:ext cx="78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70520" y="4865760"/>
            <a:ext cx="78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05720" y="4052880"/>
            <a:ext cx="0" cy="12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4052880"/>
            <a:ext cx="0" cy="12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Generalization/Specializ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57600" y="2057400"/>
            <a:ext cx="18288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3352680"/>
            <a:ext cx="18288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m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4648320"/>
            <a:ext cx="182880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572000" y="2574720"/>
            <a:ext cx="0" cy="795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572000" y="3870000"/>
            <a:ext cx="0" cy="795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80160" y="2655720"/>
            <a:ext cx="2612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very Mammal is a kind of Animal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80160" y="3951360"/>
            <a:ext cx="2612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very Canine is a kind of Animal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38320" y="5481720"/>
            <a:ext cx="5572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: “class Mammal extends Animal ...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“class Canine extends Mammal ..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aliz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2057400"/>
            <a:ext cx="2057400" cy="838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pa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17640" y="2122560"/>
            <a:ext cx="162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&lt;interface&gt;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62520" y="4648320"/>
            <a:ext cx="2057400" cy="457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2803320" y="2879640"/>
            <a:ext cx="1709640" cy="1710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1600200"/>
            <a:ext cx="2057400" cy="838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mploy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8920" y="1665360"/>
            <a:ext cx="162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&lt;interface&gt;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37320" y="3260880"/>
            <a:ext cx="566640" cy="1404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60440" y="3341520"/>
            <a:ext cx="26132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eople can be compared and put in ord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13320" y="3798720"/>
            <a:ext cx="2613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eople are employabl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4120" y="2438280"/>
            <a:ext cx="2057400" cy="838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r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38320" y="5329080"/>
            <a:ext cx="694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: “class Person implements Comparable, Employable ..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Benefits of Object Oriented Programm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roven software engineering princi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produce flexible, extensible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creation of highly complex, interrelated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faster development through re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ackag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4800600"/>
            <a:ext cx="18288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4572000"/>
            <a:ext cx="609480" cy="228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4000" y="5176800"/>
            <a:ext cx="160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.aw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2362320"/>
            <a:ext cx="18288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133720"/>
            <a:ext cx="609480" cy="228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3600" y="2738520"/>
            <a:ext cx="160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00480" y="3529080"/>
            <a:ext cx="2166840" cy="1023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ackages cn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4800600"/>
            <a:ext cx="18288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.aw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4572000"/>
            <a:ext cx="609480" cy="228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0" y="2362320"/>
            <a:ext cx="5334120" cy="160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0" y="1981080"/>
            <a:ext cx="1523880" cy="38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38560" y="3376440"/>
            <a:ext cx="1328760" cy="117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819520"/>
            <a:ext cx="182880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05520" y="2819520"/>
            <a:ext cx="182880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z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90920" y="2666880"/>
            <a:ext cx="685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2666880"/>
            <a:ext cx="685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dvanced UM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boxes used to describe structure of an OO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diagrams most us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itional kinds of UML notation also us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se Case Diagra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3429000"/>
            <a:ext cx="1447560" cy="762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3048120"/>
            <a:ext cx="457200" cy="3808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71800" y="3452760"/>
            <a:ext cx="0" cy="566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66960" y="365760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52480" y="4062240"/>
            <a:ext cx="338040" cy="262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95560" y="4062240"/>
            <a:ext cx="338040" cy="262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00480" y="388620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1320" y="4491000"/>
            <a:ext cx="1457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38920" y="4414680"/>
            <a:ext cx="160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nstrain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{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nstra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 n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{ordered} on an assoc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tereotyp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81280" y="2743200"/>
            <a:ext cx="2057400" cy="838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70120" y="2808360"/>
            <a:ext cx="162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&lt;interface&gt;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81280" y="3581280"/>
            <a:ext cx="2057400" cy="457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eTo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08760" y="2960640"/>
            <a:ext cx="20797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mplement Comparable as an interfac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nalysis vs. Design Perspectiv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 perspective: Descrip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 Prescrip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: Detai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use class diagrams for both analysis and de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equence Diagra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s a timeline of a piece of th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hasizes order of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s individual objects and mess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equence Diagra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95480" y="1752480"/>
            <a:ext cx="18288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hopping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09880" y="2301840"/>
            <a:ext cx="0" cy="38577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3733920"/>
            <a:ext cx="182880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artI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10280" y="1752480"/>
            <a:ext cx="182880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InventoryI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001000" y="2301840"/>
            <a:ext cx="0" cy="38577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4282920"/>
            <a:ext cx="0" cy="1952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585440" y="1752480"/>
            <a:ext cx="459360" cy="825480"/>
            <a:chOff x="1585440" y="1752480"/>
            <a:chExt cx="459360" cy="825480"/>
          </a:xfrm>
        </p:grpSpPr>
        <p:sp>
          <p:nvSpPr>
            <p:cNvPr id="410" name=""/>
            <p:cNvSpPr/>
            <p:nvPr/>
          </p:nvSpPr>
          <p:spPr>
            <a:xfrm>
              <a:off x="1649520" y="1752480"/>
              <a:ext cx="309600" cy="247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05040" y="2021040"/>
              <a:ext cx="0" cy="35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71480" y="2149560"/>
              <a:ext cx="32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1585440" y="2417760"/>
              <a:ext cx="2350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25560" y="2417760"/>
              <a:ext cx="21924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1060560" y="2660760"/>
            <a:ext cx="1611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eCusto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28800" y="3063960"/>
            <a:ext cx="0" cy="3019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3124080"/>
            <a:ext cx="152640" cy="24386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20960" y="3276720"/>
            <a:ext cx="1800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3276720"/>
            <a:ext cx="152280" cy="24382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02040" y="3352680"/>
            <a:ext cx="4010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924680" y="3276720"/>
            <a:ext cx="152640" cy="3808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02040" y="3962520"/>
            <a:ext cx="1190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96920" y="4724280"/>
            <a:ext cx="1724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02040" y="4876920"/>
            <a:ext cx="21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19920" y="4800600"/>
            <a:ext cx="152280" cy="3808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05000" y="2967120"/>
            <a:ext cx="1152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dItem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05400" y="2967120"/>
            <a:ext cx="1152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sInStock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0120" y="3652920"/>
            <a:ext cx="84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2720" y="4338720"/>
            <a:ext cx="130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tQuantity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10120" y="4491000"/>
            <a:ext cx="138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tQuantity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llaboration Diagra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antically the same as a sequence di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hasizes connections between objects instead of time or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sequence numbers on mess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sts of Object Oriented Programm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plex: Harder to learn than procedural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require more investment in design (but can reuse previous design investm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ther Diagram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nent Di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loyment Di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Di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y Di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ML Resour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ML Disti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nd Ed.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w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pplying Use Cases: A Practical Gui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Schneider &amp; Win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rational.com/uml/resource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holub.com/goodies/oo_design/ood_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ample: Farmer’s Marke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omain Analysi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ors: Producers, Vendors, Customers, Organizers, Entertainer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s: Location, Produce, Money, Stall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enarios: Browse, Sample, Buy,  Tip, Park, Walk, Repric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stem A: Market Simulato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nt to simulate operation of the mar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to predict traffic patterns or optimal pricing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stem B: Market Web Si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2C virtual commun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al/promotional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&amp; reserv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sonal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uggested Read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_______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5:54:51Z</dcterms:created>
  <dc:creator>John Panzer</dc:creator>
  <dc:description/>
  <dc:language>en-US</dc:language>
  <cp:lastModifiedBy>John Panzer</cp:lastModifiedBy>
  <cp:lastPrinted>2000-12-13T20:35:46Z</cp:lastPrinted>
  <dcterms:modified xsi:type="dcterms:W3CDTF">2001-01-05T23:44:16Z</dcterms:modified>
  <cp:revision>1</cp:revision>
  <dc:subject/>
  <dc:title>Object Oriented Programming Using Java</dc:title>
</cp:coreProperties>
</file>