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7671600" y="622764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</a:t>
            </a:r>
            <a:fld id="{63EB30F8-D108-45B1-8884-522ED3EEB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is a network-awar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a wide variety of library classes to help with network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-level: So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-level: URLConn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tending java.net Capabili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the Factory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URL contains a static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void setURLStreamHandlerFactory(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URLStreamHandlerFactory 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terface URLStreamHandlerFacto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exactly one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LStreamHandler createURLStreamHandler(String protoc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return null if it can’t handle tha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RLStreamHandl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s how to handle a particular protocol (such as “http” or “ftp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important method is openConnection(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LConnection openConnection(URL 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turns a subclass of URLConnection specific to the protoc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java.io Pack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Stream (returned by URLConnection.getInputStream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ed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Stream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ssembling a Stre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Stream is an abstract class for all byte 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StreamReader translates bytes from an InputStream into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feredReader supplies an input buffer to make reading characters or lines effici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ivision of Responsibili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Stream knows about the device it’s talki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StreamReader knows how to translate bytes into (Unicode) characters according to either the default character encoding or an explicitly supplied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feredReader implements an efficient buffering strate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ore on Threa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ways to create a thre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Foo extends Thread {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public void run() {...}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Bar implements Runnable {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public void run() {...} ... 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tbar = new Thread(new Bar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unnab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implement Runnable if your class already extends anothe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able very abstract (no required semantics, just “void run()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hand a Runnable to a Thread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re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Thread 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start() launches a new thread of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stop() forcibly halts the thread (deprec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sleep(time) pauses the 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yield() politely allows other threads to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Current Thre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read.currentThread() to retrieve Thread object for the current thread of contr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inside implementation of a Runnable subtyp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RLConnec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net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URLConnectionReader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[] args) throws Exceptio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urrentThread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Hi implements Runnabl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run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true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.currentThread().yield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!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leep(n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pends current thread for n milli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throw InterruptedException if sleep ends before specifi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ndle exception immediately after sleep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 waiting for a specific amount of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yield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ys “let other threads get a chance to r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 effect dependent on JVM &amp; platfor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 letting other threads run on non-preemptive plat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imesliced vs. Cooperative Threa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ome platforms, thread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oper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processor shared by all threads in a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read runs until it blocks for some reason (usually sleep() or yield(), but other methods can implicitly call yield(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threads are blocked until the current thread bloc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imesliced vs. Cooperative Threa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other platforms, thread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imesli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read runs until it exhausts it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imesl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ypically &lt;100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it is automatically suspended by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thread gets to run in its timeslic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rue Parallelis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yet other platforms, there are actually multiple CP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hread runs in parall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better performance than time-sl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combination too: Multiple CPUs, multiple threads per CP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Yiel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imesliced systems, yield() just ends the current times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it to make a thread do low-priority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yield()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ior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s have a priority between 1 (lowest) to 10 (highe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with t.setPriority(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ess all higher-priority threads block, lower-priority threads will not r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iority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Thread a has priority 1 and Thread b has priority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ess thread b blocks, thread a will never get a times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riorities carefully and sparing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en do Threads Block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s block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explicitly call sleep() or yiel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implicitly block when doing some other operation (such as I/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RLConnec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L url = new URL(args[0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LConnection conn = url.openConnection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date = conn.getLastModified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Latin, “at the same tim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, it means “only one thread at a time in one objec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s are Re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s actually synchronize 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object is a resource that threads can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threads can use an obj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Synchronized Keywor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fault, any number of threads can use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ny methods marked with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word are spe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one thread at a time can be in the synchronized meth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locking Threa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ther threads try to execute any of the synchronized methods, they are block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first thread is done, one of the blocked threads is unblo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ts unblocked is platform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s that threads don’t collide by trying to use the same object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read only usage is safe (for example, St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wait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s thread A go to sleep until something interesting happ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s thread B tell thread A that something interesting just happ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wait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obj.wait() on an object to wait until someone calls obj.notify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obj.notify() to wake up a thread that has called obj.wait(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 notified is platform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communication between 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use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wait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is for thread A to keep checking for the condition in a lo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very efficient -- known 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sy wa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it() actually puts the thread to sleep and lets the processor do useful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ow to use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wait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call both from synchronized code for that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.wait() does three important th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up lock on o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cks current thread until notify() is ca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acquires lock on obj before returning to c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ow to use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wait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.notify(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s the object in a “signalled”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kes up one thread that is wait()ing (if 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ive up lock on o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RLConnec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feredReader in = new BufferedReader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InputStreamReader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.getInputStream()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inputLin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(inputLine = in.readLine()) != nul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inputLin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.clos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(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notifyAll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All() is like notify(), but wakes up all waiting 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then compete to see who gets the lock on the object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ill eventually return from wait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Accou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long  _balanc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withdraw(long amt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newBal = _balance - amt; //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balance = newBal;                  //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deposit(long amt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newBal = _balance + amt; //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balance = newBal;                   //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 Example: Race Condi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 “ac” has _balance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 A executes “ac.deposit(5)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 B executes “ac.withdraw(10)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._balance = 15!  Oo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14800" y="914400"/>
            <a:ext cx="129528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=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19320"/>
            <a:ext cx="11430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219320"/>
            <a:ext cx="11430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76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676520"/>
            <a:ext cx="152640" cy="251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676520"/>
            <a:ext cx="152280" cy="2666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286000"/>
            <a:ext cx="45720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590920"/>
            <a:ext cx="457200" cy="380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05740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posit(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952880" y="1905120"/>
            <a:ext cx="19051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6765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draw(1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276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971800"/>
            <a:ext cx="19051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19520" y="327672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8006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Balance = _balance - 10 = 0;  /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Balance = _balance + 5 = 15; //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 = newBalance = 15;       //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 = newBalance = 15;       // 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905120"/>
            <a:ext cx="457200" cy="380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57" idx="1"/>
            <a:endCxn id="157" idx="3"/>
          </p:cNvCxnSpPr>
          <p:nvPr/>
        </p:nvCxnSpPr>
        <p:spPr>
          <a:xfrm>
            <a:off x="4114800" y="1294920"/>
            <a:ext cx="1296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114800" y="3505320"/>
            <a:ext cx="1295280" cy="761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=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4114800" y="3885840"/>
            <a:ext cx="1296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voiding Race 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nchronized keyword is made for th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Accou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long  _balanc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ynchronized vo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(long amt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newBal = _balance - amt; //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balance = newBal;                  //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voiding Race 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ynchronized void deposit(long amt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newBal = _balance + amt; //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balance = newBal;                   //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only one thread at a time can execut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ith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() or deposit() on a given instance of Accou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ace Condition Avoide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scenario go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A enters ac.deposit()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c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object “ac” because deposit is synchro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B attempts to enter ac.withdraw(), but blocks because it’s synchronized and “ac” is locked by thread 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ace Condition Avoide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A completes its work and exits deposit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VM wakes up thread B, allowing it to enter withdraw() and complete its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result: Money doesn’t van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java.net Pack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.net.U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.net.URL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.net.HttpUrl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114800" y="914400"/>
            <a:ext cx="129528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=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1219320"/>
            <a:ext cx="11430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219320"/>
            <a:ext cx="11430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676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1676520"/>
            <a:ext cx="152640" cy="251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676520"/>
            <a:ext cx="152280" cy="2666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190512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1905120"/>
            <a:ext cx="457200" cy="609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6765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posit(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952880" y="2590920"/>
            <a:ext cx="19051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3623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draw(1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3276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3276720"/>
            <a:ext cx="19051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819520" y="251460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48006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Balance = _balance - 10 = 0;  /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 = newBalance = 0;         //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Balance = _balance + 5 = 5;   //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 = newBalance = 5;         // 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514600"/>
            <a:ext cx="457200" cy="7621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88" idx="1"/>
            <a:endCxn id="188" idx="3"/>
          </p:cNvCxnSpPr>
          <p:nvPr/>
        </p:nvCxnSpPr>
        <p:spPr>
          <a:xfrm>
            <a:off x="4114800" y="1294920"/>
            <a:ext cx="1296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4114800" y="3505320"/>
            <a:ext cx="1295280" cy="761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balance=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"/>
          <p:cNvCxnSpPr/>
          <p:nvPr/>
        </p:nvCxnSpPr>
        <p:spPr>
          <a:xfrm>
            <a:off x="4114800" y="3885840"/>
            <a:ext cx="1296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6934320" y="5105520"/>
            <a:ext cx="457200" cy="53316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ed Block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lso u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rbitrary objects and arbitrary blocks of c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someMethod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hronized (someObject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ed Block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ss SomeClass {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ynchronized void someMethod() {...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/ is equivalent 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ss SomeClass {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id someMethod() {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ynchronized (this) {...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} 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ed Block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or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harder to man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you minimiz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ritical reg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code protected by a 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aximum parallelism, minimize time spent within synchronized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nchronized Static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s may be synchronized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 the class is the shared resource (the object returned by getClass()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object has one lock associated with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ynchronized methods/blocks that use that object share that 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aximum parallelism, minimize contention for 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ocking Overhe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hronized method/blocks have extra overhead, even if only one thread accesses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better performance, use unsynchronized methods (note that Vector is fully sychronized; consider using other containers if you need better perform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dvanced Synchron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that you’re writing a web server in Ja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ceives page requests in one thread, and distributes the work of building pages to a collec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orker threa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raffic becomes too high, the main thread should stop accepting requ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munication Queu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to queue up pending requ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want to let queue get too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thread 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ounded Queue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ndedQueue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BoundedQueue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rdedBoundedQueue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ther Useful Classes in java.n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net.URLEnco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net.So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net.ServerSo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eb Server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Server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ormanc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“nudge” fellow threads with notify() or notifyAll() if they are wait()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() is more efficient but fragile (may fail to notify the right thre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All() is more robust (lets all threads check their conditions) but potentially less effici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two locked objects for this tri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 A needs to use object x and object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 B needs to use object y and objec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loc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lock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block on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block on x; deadlock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dlock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imeou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al code, use wait(timeou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fortunately no way to tell if wait() returned due to a timeout or due to a notif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dd an extra flag _notified in class, set before calling notifyAll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iee needs to unset the fla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va Threa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cott Oaks &amp; Henr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current Programming in Jav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oug L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jguru.com/jguru/faq/printablefaq.jsp?faq=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urse Wrapu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ain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class design and refac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s and AW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use with Java library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th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ponsibilities in java.n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URL represents a resource on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responsible for validating and parsing URL strings, and opening a connection to the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ponsibilities in java.n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URLConnection is a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s a connection to a specific kind of resource (file, http, ftp, et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upply information about the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roduce an input stream to the bytes of the resource on dem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ponsibilities in java.n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HttpUrlConnection is what a URL returns when the string begins with “htt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knows how to handle HTTP requ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some HTTP-specific functionality (such as dealing with redirects and head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possible to register new kinds of connection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7:17:23Z</dcterms:created>
  <dc:creator>John Panzer</dc:creator>
  <dc:description/>
  <dc:language>en-US</dc:language>
  <cp:lastModifiedBy>John Panzer</cp:lastModifiedBy>
  <cp:lastPrinted>2000-12-09T02:17:10Z</cp:lastPrinted>
  <dcterms:modified xsi:type="dcterms:W3CDTF">2001-03-19T15:06:41Z</dcterms:modified>
  <cp:revision>10</cp:revision>
  <dc:subject/>
  <dc:title>Thre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johnpanzer.com</vt:lpwstr>
  </property>
  <property fmtid="{D5CDD505-2E9C-101B-9397-08002B2CF9AE}" pid="9" name="LinkColor">
    <vt:r8>16711782</vt:r8>
  </property>
  <property fmtid="{D5CDD505-2E9C-101B-9397-08002B2CF9AE}" pid="10" name="MailAddress">
    <vt:lpwstr>jpanzer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Classes\OOPJavaWinter01\Notes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